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B6E-F2E5-4255-B794-A6B40319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CAA-D0BB-4871-8844-1C1E5316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E7B-5C7C-4602-A3E9-95C7C1D0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6599-2AB5-4FAA-8D75-E0742F13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71AD-6B39-4CE0-BF81-05B50450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60B2-5229-4B6E-9751-8417EDF3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8FB0-E417-4A24-B38B-A7B5ACE4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8298-F5A5-4DED-BBBB-5F828281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D8F8-862D-4FBF-9859-7F7143E5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F9B9-A82D-4668-A06E-56961285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D052-43D5-41CF-9906-A0250211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BC6-1B93-4AA5-A68A-9D7F58F5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8738-C976-4658-B53C-FE3F9C87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F1CE-B38D-4D5C-B25B-F373DDF3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96D7-4C2D-4B36-881F-7C82537D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AAE8-40E7-4D8D-9DC4-636D4E48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311B-2D6F-4319-9134-04063CED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EB1-0A22-4CB1-A2F9-13CFF81D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5DB-FE0E-468E-8050-C5008388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585-93C5-4213-BFFA-EA01D8EF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701-F2B1-47BD-AC2C-D205AE31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29C-75C1-4D5E-B3BE-EFC585B9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713-C2D5-4C82-85D8-EBC70C31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82A-4C37-493C-B175-D727A6C7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5A00-6DD3-4953-A281-58DC40CC2672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5828-6191-49C3-B813-A0837A1B411A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hmslemon.wikispaces.com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steens.org/" TargetMode="External"/><Relationship Id="rId2" Type="http://schemas.openxmlformats.org/officeDocument/2006/relationships/hyperlink" Target="http://www.michigan.gov/documents/ag/Michigan_CSI_Program_Summary_200688_7.pdf" TargetMode="External"/><Relationship Id="rId3" Type="http://schemas.openxmlformats.org/officeDocument/2006/relationships/hyperlink" Target="http://www.archive.org/web/web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hinkfinity.org/" TargetMode="External"/><Relationship Id="rId2" Type="http://schemas.openxmlformats.org/officeDocument/2006/relationships/hyperlink" Target="http://www.mivu.org/" TargetMode="External"/><Relationship Id="rId3" Type="http://schemas.openxmlformats.org/officeDocument/2006/relationships/hyperlink" Target="http://www.nettrekker.com/us/overview" TargetMode="External"/><Relationship Id="rId4" Type="http://schemas.openxmlformats.org/officeDocument/2006/relationships/hyperlink" Target="http://www.microsoft.com/learningessentials/default.mspx" TargetMode="External"/><Relationship Id="rId5" Type="http://schemas.openxmlformats.org/officeDocument/2006/relationships/hyperlink" Target="http://www.educationlabs.com/projects/MathWorksheetGenerator/Pages/default.aspx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echnology 101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Ra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600200" y="5029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view this PowerPoint and the hyperlinks within, go to 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http://hmslemon.wikispace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810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teach-nology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ite requires a membership for full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atozteacherstuff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.discoveryeducation.com/lesson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edhelper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access without paid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lessonplanz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D-edtech 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ite was created for inservice teachers at UMD.  It is a great tool for anyone interested in the integration of technology into the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920"/>
            <a:ext cx="7564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996633"/>
                </a:solidFill>
                <a:latin typeface="Times New Roman"/>
              </a:rPr>
              <a:t>HMS Teacher Wiki</a:t>
            </a:r>
            <a:endParaRPr b="0" i="1" lang="en-US" sz="7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523880" y="1905120"/>
            <a:ext cx="739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ki is a work in prog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al of the HMS Teacher Wiki is to create a one-stop resource share for teachers at Hilbert Middle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who choose to join this Wiki will be able to add content that would be useful to co-teachers, parents and students a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the link above to view some useful onlin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ktop 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F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folders, your classroom or Lab LM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ing to Lab LMC with k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–Sav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share- Lab 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 Folder – create  your own or have one created for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s and Attach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click on them and open with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s out of order – click on received and will put them back in dat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screen- good for viewing spam f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Book – create distribution lists –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email – to box- New button- distribution list – add new name and email add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SmartSa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NS tee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stalkers, posting things onli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ves – stuff that NEVER GOE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berbu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http://www.michigan.gov/documents/ag/Michigan_CSI_Program_Summary_200688_7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wayback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038480"/>
            <a:ext cx="19432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Eng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gle, Bing, MSN, Yah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n by advertising and money(sponsored lin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kipedia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 changing – user can modify the text- not always re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– give credit – plagiarism, citation etc. and cred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79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gov –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edu – 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om –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il – mil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net -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org –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8" descr="C:\Program Files\Microsoft Office\Clipart\smbusbas\BS00093_.wmf"/>
          <p:cNvPicPr/>
          <p:nvPr/>
        </p:nvPicPr>
        <p:blipFill>
          <a:blip r:embed="rId1"/>
          <a:stretch/>
        </p:blipFill>
        <p:spPr>
          <a:xfrm>
            <a:off x="5367240" y="2101680"/>
            <a:ext cx="37386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Search –narrow your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ger vs. T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berian Ti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berian Tig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Blue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s and Videos – blocked but can be opened if you 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s, News and Shopping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keywords, title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 out things – ebay and amaz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type – PDF, PowerPoint, Word, Excel and Pictures- .jpg or .b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 Plans –usually comes with worksheets and anything else you might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Websites with Lesson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Thinkf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u Michigan Virtual University  Thru Learnport- free to all Michigan Teach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www.mivu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NetTrek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other useful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www.microsoft.com/learningessentials/default.msp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will need to download learning essenti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Math Workshee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recipes4success.com/index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 to follow with all hot links needed for Microsof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7:26:41Z</dcterms:created>
  <dc:creator>radena</dc:creator>
  <dc:description/>
  <dc:language>en-US</dc:language>
  <cp:lastModifiedBy>Pamela Rizzo</cp:lastModifiedBy>
  <dcterms:modified xsi:type="dcterms:W3CDTF">2010-11-02T03:59:28Z</dcterms:modified>
  <cp:revision>35</cp:revision>
  <dc:subject/>
  <dc:title>Technology 101</dc:title>
</cp:coreProperties>
</file>